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88B-65A5-4368-ACDF-2FFAFC4C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BC4-9B2F-4B27-9A33-D4C66778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EDA-F0DD-4206-A817-FE246FF3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7E76-F783-4A69-9FC0-CB3A557D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C8DA-1B29-4F6E-8A11-5DDB98EF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6BAA-37C9-4A58-B887-6009217A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2221-F0CC-4D43-9580-7D440B83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9B6E-B87D-4400-82C7-AE7B78ED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94B8-09E5-49B5-8CE9-5A8A4A2A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9E9F-0726-4F8D-BFCB-BDE7DCF7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5E03-58D4-4B80-A7DC-7BEF5194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7E6-7019-4325-BED5-1E8719B3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DFE5-B8A9-4D10-9C7A-A8D5E189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7688-40F7-437E-93A0-A282B257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C2A9-1D5C-4EBC-9D44-8C8B18CE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7F9C-17D2-43B4-9D46-7811084D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6BD8-BB29-4842-9161-2382B068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C30-C15C-4445-B42E-C57817FB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EAD0-1FEE-41FA-BCC6-4CC6B9E8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3AA9-9EE5-4F90-9F56-3298130B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909-A99C-4117-9EB7-E3354530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63EC-D76A-4FD8-88EA-B4E30EE7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2E42-83F0-4E81-B725-9268BED7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7686-FA6E-4637-A6A7-E82DDE85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1DBC-4636-4D58-BE8A-FD17AA29ED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D1F0-0CDF-4111-B1F4-F9BB88F926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4240" y="985320"/>
            <a:ext cx="81439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Речи вести – не лапти плести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2571480"/>
            <a:ext cx="7239240" cy="26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КОУ «СОШ с. Благовещенка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Гридунова Елена Витальев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3" name="Почему мы так говорим.mp4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16436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6920" y="980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Почему мы так говорим?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1400" y="32040"/>
            <a:ext cx="85719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озги -свистульки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ттестат </a:t>
            </a:r>
            <a:r>
              <a:rPr b="1" lang="ru-RU" sz="4000" spc="-1" strike="noStrike">
                <a:solidFill>
                  <a:srgbClr val="7030a0"/>
                </a:solidFill>
                <a:latin typeface="Verdana"/>
                <a:ea typeface="Times New Roman"/>
              </a:rPr>
              <a:t>–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титулка,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ицо </a:t>
            </a:r>
            <a:r>
              <a:rPr b="1" lang="ru-RU" sz="4000" spc="-1" strike="noStrike">
                <a:solidFill>
                  <a:srgbClr val="7030a0"/>
                </a:solidFill>
                <a:latin typeface="Verdana"/>
                <a:ea typeface="Times New Roman"/>
              </a:rPr>
              <a:t>–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лупетка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лаза </a:t>
            </a:r>
            <a:r>
              <a:rPr b="1" lang="ru-RU" sz="4000" spc="-1" strike="noStrike">
                <a:solidFill>
                  <a:srgbClr val="7030a0"/>
                </a:solidFill>
                <a:latin typeface="Verdana"/>
                <a:ea typeface="Times New Roman"/>
              </a:rPr>
              <a:t>–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гляделк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лассные дамы - синявки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учшие ученицы-сливки, парфетки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Худшие по поведению-мовешк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Arial"/>
              </a:rPr>
              <a:t>Синквейн</a:t>
            </a:r>
            <a:endParaRPr b="0" lang="en-US" sz="6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первая строка – название темы (одно существительное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вторая – описание темы в двух словах, два прилагательны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третья – строка описание действия в рамках этой темы тремя словам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четвёртая строка –целое предложен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последняя строка – синоним, который повторяет суть те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85840" y="499680"/>
            <a:ext cx="85723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ч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авильная, добра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огащает, очищает, объединяе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ботай над собственной речью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уш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-642600"/>
            <a:ext cx="7313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2920" y="142560"/>
            <a:ext cx="885816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Диалог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Сёдня на улице дубак такой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- Блин, вчера тепло было, а сёдня, я фигею, такой дуба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-Ё-моё, контроша  ведь сёдня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-Всё выучи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- Ты чё, тормоз? Шпор надела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14760" y="32760"/>
            <a:ext cx="65235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Не базарь – не говори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Не гони – не обманывай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Оттянуться-отдохнуть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Наезжать- приставать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За бугром – за границей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Слинять – уйти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Оторваться- веселиться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Тащусь-восхищаюсь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55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Заповеди речевого поведения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7120" y="928440"/>
            <a:ext cx="8501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Всегда знай, с какой целью и зачем говориш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Помни, что вежливость – основа речевого повед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Избегай слов – парази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Говори просто, четко, понят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Избегай речевого однообраз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Следуй высоким образц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4:03:33Z</dcterms:created>
  <dc:creator>Владелец</dc:creator>
  <dc:description/>
  <dc:language>en-US</dc:language>
  <cp:lastModifiedBy>Никита Гридунов</cp:lastModifiedBy>
  <dcterms:modified xsi:type="dcterms:W3CDTF">2015-01-25T19:26:42Z</dcterms:modified>
  <cp:revision>58</cp:revision>
  <dc:subject/>
  <dc:title>Лексика</dc:title>
</cp:coreProperties>
</file>